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65F-C11E-4EB7-A2F2-B5ADDCB0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76C-FD06-420B-B4E3-F2448034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EE0-E245-4328-AF9F-CDA059A0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D76-AF10-42F4-B099-7CF029A8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D4A-35A2-42B5-9762-CCA4A902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7BD-E901-4A20-878A-153BE41F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285-FA4F-4503-8920-F52D8D61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C10-C85B-4E68-ABF6-98E87F8B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DE6-23B4-4FF3-8320-C2E3011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D79-08F9-42E1-974F-4B35C18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FB4-B73A-48F7-B956-1F72F3B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E5E-70D9-4E12-BD7A-5546765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85F0-7724-46DB-8034-B37D52A0CBA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5 Sobotný deň z veľkej lá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botný deň z veľkej lásk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oval nám Stvor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pevňuje naše zväzk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kazuje vier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 nás ako Otec ver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ší, chráni, trestať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us k spáse stal sa dverm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covské zve náruč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a, Pane chceme chvál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ky úprimnej čuj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ilosti si neskonal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nám sa skláňaš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otroctva zapreda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si krížom vykúpi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ľud hriechom poškvrn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vou svojou očis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k nám sa vrátiš zas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herný to bude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em sa zaskvie v novej krás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bom zaznie chvál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obotný deň budú zn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všetkých úst piesne zn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m, kde cirkev Ježiš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u tvár už bude zrie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6-11-23T17:27:22Z</dcterms:modified>
  <cp:revision>10</cp:revision>
  <dc:subject/>
  <dc:title>Je veľký náš Pán, on slávy je Kráľ Nech do všetkých strán  spev vrúcnych znie chvál.</dc:title>
</cp:coreProperties>
</file>